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09C0-8305-4ACD-8570-4090790A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AD6C-6EC6-4C88-94E7-2728D4D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70B2-3638-4830-92E9-BA139673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4854-2309-4E50-82CC-D57BC955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697FC-1E7A-4F01-876B-B1260A1F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A7A0D-3A04-4B2B-93D3-FCA3791C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52BDE-BED9-4AB0-B831-9264E57F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3672D-0F82-4A51-BF48-06EA607F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41E53-E060-4A6B-B22E-8BC30CE1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6197F-6865-4831-AC88-26A93138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689EA-4762-467B-91D2-6CC7C49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B565-EB3D-4767-B2F5-67C4CBB7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24FAC-26AB-4F37-921F-4A92B0E4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A083A-1949-43BA-BEB5-CCC50B94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575C3-06EE-4C45-8AB2-1F8451D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75594-BBF3-46A3-BE54-DAFE9F74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68349-781C-4F66-9286-26680CCC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94497-6999-4849-B128-BAC23E00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2699-471F-4A91-97F6-0366A0F0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9E54-C616-47BF-A5AC-1AE68861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1169-872C-42EA-9306-1EC589FF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AF8B-3182-4AF9-9C02-9B178AD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27AE-89A1-4622-91DB-4DB7732B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90C2-4BE0-40FE-8D22-980E9563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8511-770A-4A04-B84A-7967CBEB3445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římá spojovací čára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římá spojovací čára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1563-26AF-4218-A2AC-115307B67A5B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53272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      za r. 20</a:t>
            </a:r>
            <a:r>
              <a:rPr b="1" lang="en-US" sz="3200" spc="-1" strike="noStrike">
                <a:solidFill>
                  <a:srgbClr val="fe8637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celkem </a:t>
            </a:r>
            <a:r>
              <a:rPr b="1" lang="en-US" sz="3200" spc="-1" strike="noStrike">
                <a:solidFill>
                  <a:srgbClr val="fe8637"/>
                </a:solidFill>
                <a:latin typeface="Arial"/>
              </a:rPr>
              <a:t>448</a:t>
            </a: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rodičů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1123920" y="1981080"/>
          <a:ext cx="609588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981080"/>
                    <a:ext cx="60958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  věk dotazovaných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16000" y="1989000"/>
          <a:ext cx="7304040" cy="40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7304040" cy="40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          vzdělání dotazovaných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542880" y="1989000"/>
          <a:ext cx="7900920" cy="40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989000"/>
                    <a:ext cx="79009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základy KPR jsem před kurzem ovládal/a:</a:t>
            </a: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98" name="Object 0"/>
          <p:cNvGraphicFramePr/>
          <p:nvPr/>
        </p:nvGraphicFramePr>
        <p:xfrm>
          <a:off x="971640" y="2133720"/>
          <a:ext cx="745812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4581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7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611c"/>
                </a:solidFill>
                <a:latin typeface="Arial"/>
              </a:rPr>
              <a:t>NE + ANO TEORETICKY = 85%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 Základy jsem si osvojil/a:</a:t>
            </a:r>
            <a:br>
              <a:rPr sz="3200"/>
            </a:br>
            <a:br>
              <a:rPr sz="2300"/>
            </a:b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102" name="Object 0"/>
          <p:cNvGraphicFramePr/>
          <p:nvPr/>
        </p:nvGraphicFramePr>
        <p:xfrm>
          <a:off x="1116000" y="1844640"/>
          <a:ext cx="746748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746748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250920" y="57340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11c"/>
                </a:solidFill>
                <a:latin typeface="Arial"/>
              </a:rPr>
              <a:t>JINDE: autoškola, hasiči, skauti, dětské krouž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11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d2611c"/>
                </a:solidFill>
                <a:latin typeface="Arial"/>
              </a:rPr>
              <a:t>tábory, vodácký oddíl, plavecký ku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867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e8637"/>
                </a:solidFill>
                <a:latin typeface="Century Schoolbook"/>
              </a:rPr>
              <a:t>  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e8637"/>
                </a:solidFill>
                <a:latin typeface="Century Schoolbook"/>
              </a:rPr>
              <a:t>                                                                    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e8637"/>
                </a:solidFill>
                <a:latin typeface="Century Schoolbook"/>
              </a:rPr>
              <a:t>       </a:t>
            </a: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      Ocitl jsem se v situaci, kdy bylo </a:t>
            </a: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       potřeba poskytnout první pomoc?</a:t>
            </a:r>
            <a:br>
              <a:rPr sz="3200"/>
            </a:br>
            <a:r>
              <a:rPr b="1" lang="en-US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r>
              <a:rPr b="1" lang="en-US" sz="2900" spc="-1" strike="noStrike">
                <a:solidFill>
                  <a:srgbClr val="fe8637"/>
                </a:solidFill>
                <a:latin typeface="Century Schoolbook"/>
              </a:rPr>
              <a:t>      </a:t>
            </a:r>
            <a:br>
              <a:rPr sz="2900"/>
            </a:br>
            <a:r>
              <a:rPr b="1" lang="en-US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endParaRPr b="0" lang="en-US" sz="29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192320" y="2492280"/>
          <a:ext cx="745812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2492280"/>
                    <a:ext cx="74581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964080"/>
            <a:ext cx="746748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971640" y="1916280"/>
          <a:ext cx="7561080" cy="40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16280"/>
                    <a:ext cx="7561080" cy="40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6"/>
          <p:cNvSpPr/>
          <p:nvPr/>
        </p:nvSpPr>
        <p:spPr>
          <a:xfrm>
            <a:off x="468360" y="2602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 PP jsem v již životě poskyt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611c"/>
                </a:solidFill>
                <a:latin typeface="Arial"/>
              </a:rPr>
              <a:t>Ze 49 klientů 3 KPR nezvlád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2916360" y="429264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916360" y="4292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8637"/>
                </a:solidFill>
                <a:latin typeface="Century Schoolbook"/>
              </a:rPr>
              <a:t>  Školení považuji za potřebné: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Arial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1263600" y="2133720"/>
          <a:ext cx="745812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2133720"/>
                    <a:ext cx="745812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3:12:49Z</dcterms:created>
  <dc:creator>Mgr. Světlana Myšáková</dc:creator>
  <dc:description/>
  <dc:language>en-US</dc:language>
  <cp:lastModifiedBy>Orlickoústecká nemocnice, a.s.</cp:lastModifiedBy>
  <dcterms:modified xsi:type="dcterms:W3CDTF">2014-01-08T12:11:59Z</dcterms:modified>
  <cp:revision>59</cp:revision>
  <dc:subject/>
  <dc:title>Zkušební test bozp a po      3.6.2008</dc:title>
</cp:coreProperties>
</file>