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8B9F6-5AAD-4F33-A80A-B53642FF9C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99A6E-3F21-440B-B1F0-CE2B147D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907CB-610C-42C7-AFA6-9602063F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D6B7C-1357-4D1E-AA12-4868CDC8C4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34090-737B-45DA-8A42-76F5C25C04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3A9EEF-668D-4D6C-9467-9DD73C09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71F0A-4518-4DAA-9F70-C9B19371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07CF1-7743-40CC-A820-DB04CE59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D9DDB-8220-4747-AF45-44C793E6D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C626A-1D91-4071-A465-E44B3394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3D798-50B5-481A-ABC7-EE101D7A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90721-5A20-4256-B915-117C13EB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46792-8E09-447D-8BA3-AC573E37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316B8-62BE-4F8A-A595-324F47B1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C8D08-E95D-4FA7-91EB-85B44410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6B226-305F-439B-AB62-950FDD3E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A3C2E-DE94-4CF1-8F42-A3AAAC989D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6EAC0-A309-4B47-92DD-D251BE4E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AF50A-E17C-4328-88A0-67A83513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ACF5F-7A6A-4043-B52B-B1142FDCB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BC229-FA92-4186-A0EE-2B188C4D9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C8C73-1019-4C1E-BCA9-BA954EF8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9250C-0C9E-48DF-B81B-7FFED32C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7924A-1FDA-436D-8D36-501D410F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A42175F-9070-4D58-9647-2E9BE2E8CE4A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5400000">
            <a:off x="6990840" y="37353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267AAC-212F-43F9-8B3B-FFA6D0E5435D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274680"/>
            <a:ext cx="853272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575f6d"/>
                </a:solidFill>
                <a:latin typeface="Century Schoolbook"/>
              </a:rPr>
              <a:t>           </a:t>
            </a: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Dotazníky – zpětná vazba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       za r. 20</a:t>
            </a:r>
            <a:r>
              <a:rPr b="1" lang="cs-CZ" sz="3200" spc="-1" strike="noStrike">
                <a:solidFill>
                  <a:srgbClr val="fe8637"/>
                </a:solidFill>
                <a:latin typeface="Arial"/>
              </a:rPr>
              <a:t>13</a:t>
            </a: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 celkem </a:t>
            </a:r>
            <a:r>
              <a:rPr b="1" lang="cs-CZ" sz="3200" spc="-1" strike="noStrike">
                <a:solidFill>
                  <a:srgbClr val="fe8637"/>
                </a:solidFill>
                <a:latin typeface="Arial"/>
              </a:rPr>
              <a:t>408</a:t>
            </a: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 rodič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123920" y="1981080"/>
            <a:ext cx="6094440" cy="4075200"/>
            <a:chOff x="1123920" y="1981080"/>
            <a:chExt cx="6094440" cy="4075200"/>
          </a:xfrm>
        </p:grpSpPr>
        <p:graphicFrame>
          <p:nvGraphicFramePr>
            <p:cNvPr id="90" name=""/>
            <p:cNvGraphicFramePr/>
            <p:nvPr/>
          </p:nvGraphicFramePr>
          <p:xfrm>
            <a:off x="1123920" y="1981080"/>
            <a:ext cx="6094440" cy="4075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23920" y="1981080"/>
                      <a:ext cx="6094440" cy="407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>
              <a:off x="1123920" y="1981080"/>
              <a:ext cx="6094440" cy="40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-1035000"/>
            <a:ext cx="80024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Dotazníky – zpětná vazba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   věk dotazovaný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116000" y="1989000"/>
            <a:ext cx="7302600" cy="4048200"/>
            <a:chOff x="1116000" y="1989000"/>
            <a:chExt cx="7302600" cy="4048200"/>
          </a:xfrm>
        </p:grpSpPr>
        <p:graphicFrame>
          <p:nvGraphicFramePr>
            <p:cNvPr id="95" name=""/>
            <p:cNvGraphicFramePr/>
            <p:nvPr/>
          </p:nvGraphicFramePr>
          <p:xfrm>
            <a:off x="1116000" y="1989000"/>
            <a:ext cx="7302600" cy="4048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16000" y="1989000"/>
                      <a:ext cx="7302600" cy="404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" name=""/>
            <p:cNvSpPr/>
            <p:nvPr/>
          </p:nvSpPr>
          <p:spPr>
            <a:xfrm>
              <a:off x="1116000" y="1989000"/>
              <a:ext cx="7302600" cy="40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260280"/>
            <a:ext cx="7467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fe8637"/>
                </a:solidFill>
                <a:latin typeface="Century Schoolbook"/>
              </a:rPr>
              <a:t>     </a:t>
            </a: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Dotazníky – zpětná vazba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           vzdělání dotazovaný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42880" y="1989000"/>
            <a:ext cx="7899480" cy="4052880"/>
            <a:chOff x="542880" y="1989000"/>
            <a:chExt cx="7899480" cy="4052880"/>
          </a:xfrm>
        </p:grpSpPr>
        <p:graphicFrame>
          <p:nvGraphicFramePr>
            <p:cNvPr id="100" name=""/>
            <p:cNvGraphicFramePr/>
            <p:nvPr/>
          </p:nvGraphicFramePr>
          <p:xfrm>
            <a:off x="542880" y="1989000"/>
            <a:ext cx="7899480" cy="405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42880" y="1989000"/>
                      <a:ext cx="7899480" cy="405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"/>
            <p:cNvSpPr/>
            <p:nvPr/>
          </p:nvSpPr>
          <p:spPr>
            <a:xfrm>
              <a:off x="542880" y="1989000"/>
              <a:ext cx="7899480" cy="40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0920" y="274680"/>
            <a:ext cx="84978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900" spc="-1" strike="noStrike">
                <a:solidFill>
                  <a:srgbClr val="fe8637"/>
                </a:solidFill>
                <a:latin typeface="Century Schoolbook"/>
              </a:rPr>
              <a:t>        </a:t>
            </a: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Dotazníky – zpětná vazba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 základy KPR jsem před kurzem ovládal/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71640" y="2133720"/>
            <a:ext cx="7456320" cy="3825720"/>
            <a:chOff x="971640" y="2133720"/>
            <a:chExt cx="7456320" cy="3825720"/>
          </a:xfrm>
        </p:grpSpPr>
        <p:graphicFrame>
          <p:nvGraphicFramePr>
            <p:cNvPr id="105" name=""/>
            <p:cNvGraphicFramePr/>
            <p:nvPr/>
          </p:nvGraphicFramePr>
          <p:xfrm>
            <a:off x="971640" y="2133720"/>
            <a:ext cx="7456320" cy="3825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71640" y="2133720"/>
                      <a:ext cx="7456320" cy="382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7" name=""/>
            <p:cNvSpPr/>
            <p:nvPr/>
          </p:nvSpPr>
          <p:spPr>
            <a:xfrm>
              <a:off x="971640" y="2133720"/>
              <a:ext cx="7456320" cy="38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539640" y="609300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d2611c"/>
                </a:solidFill>
                <a:latin typeface="Arial"/>
              </a:rPr>
              <a:t>NE + ANO TEORETICKY = 85%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8360" y="237960"/>
            <a:ext cx="7467480" cy="22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Dotazníky – zpětná vazba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  Základy jsem si osvojil/a:</a:t>
            </a:r>
            <a:br>
              <a:rPr sz="3200"/>
            </a:br>
            <a:br>
              <a:rPr sz="23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116000" y="1844640"/>
            <a:ext cx="7466040" cy="3830760"/>
            <a:chOff x="1116000" y="1844640"/>
            <a:chExt cx="7466040" cy="3830760"/>
          </a:xfrm>
        </p:grpSpPr>
        <p:graphicFrame>
          <p:nvGraphicFramePr>
            <p:cNvPr id="111" name=""/>
            <p:cNvGraphicFramePr/>
            <p:nvPr/>
          </p:nvGraphicFramePr>
          <p:xfrm>
            <a:off x="1116000" y="1844640"/>
            <a:ext cx="7466040" cy="3830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16000" y="1844640"/>
                      <a:ext cx="7466040" cy="383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>
              <a:off x="1116000" y="1844640"/>
              <a:ext cx="7466040" cy="38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250920" y="573408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d2611c"/>
                </a:solidFill>
                <a:latin typeface="Arial"/>
              </a:rPr>
              <a:t>JINDE: autoškola, hasiči, skauti, dětské krouž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d2611c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d2611c"/>
                </a:solidFill>
                <a:latin typeface="Arial"/>
              </a:rPr>
              <a:t>tábory, vodácký oddíl, plavecký kur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-6419880"/>
            <a:ext cx="8675640" cy="9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900" spc="-1" strike="noStrike">
                <a:solidFill>
                  <a:srgbClr val="fe8637"/>
                </a:solidFill>
                <a:latin typeface="Century Schoolbook"/>
              </a:rPr>
              <a:t>           </a:t>
            </a: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cs-CZ" sz="2900" spc="-1" strike="noStrike">
                <a:solidFill>
                  <a:srgbClr val="fe8637"/>
                </a:solidFill>
                <a:latin typeface="Century Schoolbook"/>
              </a:rPr>
              <a:t> </a:t>
            </a:r>
            <a:br>
              <a:rPr sz="2900"/>
            </a:br>
            <a:br>
              <a:rPr sz="2900"/>
            </a:br>
            <a:br>
              <a:rPr sz="2900"/>
            </a:br>
            <a:r>
              <a:rPr b="1" lang="cs-CZ" sz="2900" spc="-1" strike="noStrike">
                <a:solidFill>
                  <a:srgbClr val="fe8637"/>
                </a:solidFill>
                <a:latin typeface="Century Schoolbook"/>
              </a:rPr>
              <a:t>                                                                      </a:t>
            </a:r>
            <a:br>
              <a:rPr sz="2900"/>
            </a:br>
            <a:br>
              <a:rPr sz="2900"/>
            </a:br>
            <a:br>
              <a:rPr sz="2900"/>
            </a:br>
            <a:r>
              <a:rPr b="1" lang="cs-CZ" sz="2900" spc="-1" strike="noStrike">
                <a:solidFill>
                  <a:srgbClr val="fe8637"/>
                </a:solidFill>
                <a:latin typeface="Century Schoolbook"/>
              </a:rPr>
              <a:t>       </a:t>
            </a: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Dotazníky – zpětná vazba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       Ocitl jsem se v situaci, kdy bylo </a:t>
            </a:r>
            <a:br>
              <a:rPr sz="3200"/>
            </a:b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        potřeba poskytnout první pomoc?</a:t>
            </a:r>
            <a:br>
              <a:rPr sz="3200"/>
            </a:br>
            <a:r>
              <a:rPr b="1" lang="cs-CZ" sz="2900" spc="-1" strike="noStrike">
                <a:solidFill>
                  <a:srgbClr val="fe8637"/>
                </a:solidFill>
                <a:latin typeface="Century Schoolbook"/>
              </a:rPr>
              <a:t> </a:t>
            </a:r>
            <a:br>
              <a:rPr sz="2900"/>
            </a:br>
            <a:r>
              <a:rPr b="1" lang="cs-CZ" sz="2900" spc="-1" strike="noStrike">
                <a:solidFill>
                  <a:srgbClr val="fe8637"/>
                </a:solidFill>
                <a:latin typeface="Century Schoolbook"/>
              </a:rPr>
              <a:t>      </a:t>
            </a:r>
            <a:br>
              <a:rPr sz="2900"/>
            </a:br>
            <a:r>
              <a:rPr b="1" lang="cs-CZ" sz="2900" spc="-1" strike="noStrike">
                <a:solidFill>
                  <a:srgbClr val="fe8637"/>
                </a:solidFill>
                <a:latin typeface="Century Schoolbook"/>
              </a:rPr>
              <a:t>     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192320" y="2492280"/>
            <a:ext cx="7456320" cy="3826080"/>
            <a:chOff x="1192320" y="2492280"/>
            <a:chExt cx="7456320" cy="3826080"/>
          </a:xfrm>
        </p:grpSpPr>
        <p:graphicFrame>
          <p:nvGraphicFramePr>
            <p:cNvPr id="117" name=""/>
            <p:cNvGraphicFramePr/>
            <p:nvPr/>
          </p:nvGraphicFramePr>
          <p:xfrm>
            <a:off x="1192320" y="2492280"/>
            <a:ext cx="7456320" cy="3826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92320" y="2492280"/>
                      <a:ext cx="7456320" cy="382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9" name=""/>
            <p:cNvSpPr/>
            <p:nvPr/>
          </p:nvSpPr>
          <p:spPr>
            <a:xfrm>
              <a:off x="1192320" y="2492280"/>
              <a:ext cx="7456320" cy="38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-965160"/>
            <a:ext cx="74674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71640" y="1916280"/>
            <a:ext cx="7559640" cy="4054320"/>
            <a:chOff x="971640" y="1916280"/>
            <a:chExt cx="7559640" cy="4054320"/>
          </a:xfrm>
        </p:grpSpPr>
        <p:graphicFrame>
          <p:nvGraphicFramePr>
            <p:cNvPr id="122" name=""/>
            <p:cNvGraphicFramePr/>
            <p:nvPr/>
          </p:nvGraphicFramePr>
          <p:xfrm>
            <a:off x="971640" y="1916280"/>
            <a:ext cx="7559640" cy="4054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71640" y="1916280"/>
                      <a:ext cx="7559640" cy="405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4" name=""/>
            <p:cNvSpPr/>
            <p:nvPr/>
          </p:nvSpPr>
          <p:spPr>
            <a:xfrm>
              <a:off x="971640" y="1916280"/>
              <a:ext cx="7559640" cy="40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68360" y="260280"/>
            <a:ext cx="79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fe8637"/>
                </a:solidFill>
                <a:latin typeface="Century Schoolbook"/>
              </a:rPr>
              <a:t>     </a:t>
            </a: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Dotazníky – zpětná vazba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  PP jsem v již životě poskyt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609300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d2611c"/>
                </a:solidFill>
                <a:latin typeface="Arial"/>
              </a:rPr>
              <a:t>Z 55 klientů 8 KPR nezvlád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16360" y="4292640"/>
            <a:ext cx="57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16360" y="429264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274680"/>
            <a:ext cx="746748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575f6d"/>
                </a:solidFill>
                <a:latin typeface="Century Schoolbook"/>
              </a:rPr>
              <a:t>     </a:t>
            </a: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Dotazníky – zpětná vazba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  Školení považuji za potřebné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263600" y="2133720"/>
            <a:ext cx="7456680" cy="3825720"/>
            <a:chOff x="1263600" y="2133720"/>
            <a:chExt cx="7456680" cy="3825720"/>
          </a:xfrm>
        </p:grpSpPr>
        <p:graphicFrame>
          <p:nvGraphicFramePr>
            <p:cNvPr id="131" name=""/>
            <p:cNvGraphicFramePr/>
            <p:nvPr/>
          </p:nvGraphicFramePr>
          <p:xfrm>
            <a:off x="1263600" y="2133720"/>
            <a:ext cx="7456680" cy="3825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63600" y="2133720"/>
                      <a:ext cx="7456680" cy="382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3" name=""/>
            <p:cNvSpPr/>
            <p:nvPr/>
          </p:nvSpPr>
          <p:spPr>
            <a:xfrm>
              <a:off x="1263600" y="2133720"/>
              <a:ext cx="7456680" cy="38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1T13:12:49Z</dcterms:created>
  <dc:creator>Mgr. Světlana Myšáková</dc:creator>
  <dc:description/>
  <dc:language>en-US</dc:language>
  <cp:lastModifiedBy>Orlickoústecká nemocnice, a.s.</cp:lastModifiedBy>
  <dcterms:modified xsi:type="dcterms:W3CDTF">2014-02-11T11:19:02Z</dcterms:modified>
  <cp:revision>61</cp:revision>
  <dc:subject/>
  <dc:title>Zkušební test bozp a po      3.6.2008</dc:title>
</cp:coreProperties>
</file>