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96BA-713E-487F-A566-B895286C17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D1732-625D-4D9B-9D3A-E9E758A5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B36E-DCCF-4027-8360-5C12C2C0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33CE0-8A37-4B3B-B6B4-4B96383FF5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A7C3E-E6F0-45FA-8956-F05501BA9C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28630-55F2-41DC-8528-BE797D8A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43A7D-6B53-4ADC-862A-DA06C0A3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E901B-D57B-4B72-A872-9E377C22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988F9-C110-4D63-A384-184B5D10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8F2B5-5942-4F63-81F5-C398C846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2D51A-B7E2-4F79-8EC6-62065DED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3FF5B-7603-47E3-A4E2-56CA96B2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F7D68-257D-4029-B1F0-C81DFE0F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F8730-6E44-44B7-9D20-0690ECAF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445EF-3F7F-4E5C-B272-EC787866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3E220-F3F1-41D6-9A79-2CCAD072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66F4B-456B-49C8-8A44-B62943C68A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62C63-F284-4FDD-BBCD-1514B739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85114-B4D0-4CA5-9436-E82D4561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1B1B-8369-41F7-B3FF-A5F5E804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0D69D-303D-4B61-9194-87BF0E38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EE503-70D6-473E-88B8-6062E204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45F84-44C5-46DC-9FB2-7D92B4C6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E0335-CDBE-4938-A579-3AB32D97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8AA0CE-EA2B-4131-823F-3F0AD04A519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99084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B648E2-417D-4380-A8F6-39CD7A92ABFC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74680"/>
            <a:ext cx="85327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    za r. 20</a:t>
            </a:r>
            <a:r>
              <a:rPr b="1" lang="cs-CZ" sz="3200" spc="-1" strike="noStrike">
                <a:solidFill>
                  <a:srgbClr val="fe8637"/>
                </a:solidFill>
                <a:latin typeface="Arial"/>
              </a:rPr>
              <a:t>14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celkem </a:t>
            </a:r>
            <a:r>
              <a:rPr b="1" lang="cs-CZ" sz="3200" spc="-1" strike="noStrike">
                <a:solidFill>
                  <a:srgbClr val="fe8637"/>
                </a:solidFill>
                <a:latin typeface="Arial"/>
              </a:rPr>
              <a:t>423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rodič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123920" y="1981080"/>
            <a:ext cx="6094440" cy="4075200"/>
            <a:chOff x="1123920" y="1981080"/>
            <a:chExt cx="6094440" cy="4075200"/>
          </a:xfrm>
        </p:grpSpPr>
        <p:graphicFrame>
          <p:nvGraphicFramePr>
            <p:cNvPr id="90" name=""/>
            <p:cNvGraphicFramePr/>
            <p:nvPr/>
          </p:nvGraphicFramePr>
          <p:xfrm>
            <a:off x="1123920" y="1981080"/>
            <a:ext cx="6094440" cy="407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23920" y="1981080"/>
                      <a:ext cx="6094440" cy="407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123920" y="1981080"/>
              <a:ext cx="6094440" cy="40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-1035000"/>
            <a:ext cx="8002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věk dotazovan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16000" y="1989000"/>
            <a:ext cx="7302600" cy="4048200"/>
            <a:chOff x="1116000" y="1989000"/>
            <a:chExt cx="7302600" cy="4048200"/>
          </a:xfrm>
        </p:grpSpPr>
        <p:graphicFrame>
          <p:nvGraphicFramePr>
            <p:cNvPr id="95" name=""/>
            <p:cNvGraphicFramePr/>
            <p:nvPr/>
          </p:nvGraphicFramePr>
          <p:xfrm>
            <a:off x="1116000" y="1989000"/>
            <a:ext cx="7302600" cy="404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989000"/>
                      <a:ext cx="7302600" cy="404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1116000" y="1989000"/>
              <a:ext cx="7302600" cy="40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26028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fe8637"/>
                </a:solidFill>
                <a:latin typeface="Century Schoolbook"/>
              </a:rPr>
              <a:t>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        vzdělání dotazovan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42880" y="1989000"/>
            <a:ext cx="7899480" cy="4052880"/>
            <a:chOff x="542880" y="1989000"/>
            <a:chExt cx="7899480" cy="4052880"/>
          </a:xfrm>
        </p:grpSpPr>
        <p:graphicFrame>
          <p:nvGraphicFramePr>
            <p:cNvPr id="100" name=""/>
            <p:cNvGraphicFramePr/>
            <p:nvPr/>
          </p:nvGraphicFramePr>
          <p:xfrm>
            <a:off x="542880" y="1989000"/>
            <a:ext cx="7899480" cy="40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2880" y="1989000"/>
                      <a:ext cx="7899480" cy="40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42880" y="1989000"/>
              <a:ext cx="7899480" cy="40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274680"/>
            <a:ext cx="84978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základy KPR jsem před kurzem ovládal/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71640" y="2133720"/>
            <a:ext cx="7456320" cy="3825720"/>
            <a:chOff x="971640" y="2133720"/>
            <a:chExt cx="7456320" cy="3825720"/>
          </a:xfrm>
        </p:grpSpPr>
        <p:graphicFrame>
          <p:nvGraphicFramePr>
            <p:cNvPr id="105" name=""/>
            <p:cNvGraphicFramePr/>
            <p:nvPr/>
          </p:nvGraphicFramePr>
          <p:xfrm>
            <a:off x="971640" y="2133720"/>
            <a:ext cx="7456320" cy="382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2133720"/>
                      <a:ext cx="7456320" cy="38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"/>
            <p:cNvSpPr/>
            <p:nvPr/>
          </p:nvSpPr>
          <p:spPr>
            <a:xfrm>
              <a:off x="971640" y="2133720"/>
              <a:ext cx="7456320" cy="38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39640" y="6093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d2611c"/>
                </a:solidFill>
                <a:latin typeface="Arial"/>
              </a:rPr>
              <a:t>NE + ANO TEORETICKY = 82%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237960"/>
            <a:ext cx="746748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Základy jsem si osvojil/a:</a:t>
            </a:r>
            <a:br>
              <a:rPr sz="3200"/>
            </a:br>
            <a:br>
              <a:rPr sz="23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16000" y="1844640"/>
            <a:ext cx="7466040" cy="3830760"/>
            <a:chOff x="1116000" y="1844640"/>
            <a:chExt cx="7466040" cy="3830760"/>
          </a:xfrm>
        </p:grpSpPr>
        <p:graphicFrame>
          <p:nvGraphicFramePr>
            <p:cNvPr id="111" name=""/>
            <p:cNvGraphicFramePr/>
            <p:nvPr/>
          </p:nvGraphicFramePr>
          <p:xfrm>
            <a:off x="1116000" y="1844640"/>
            <a:ext cx="7466040" cy="383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844640"/>
                      <a:ext cx="7466040" cy="383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1116000" y="1844640"/>
              <a:ext cx="7466040" cy="38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50920" y="573408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d2611c"/>
                </a:solidFill>
                <a:latin typeface="Arial"/>
              </a:rPr>
              <a:t>JINDE: autoškola, hasiči, skauti, dětské krouž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d2611c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d2611c"/>
                </a:solidFill>
                <a:latin typeface="Arial"/>
              </a:rPr>
              <a:t>tábory, vodácký oddíl, plavecký ku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-6419880"/>
            <a:ext cx="8675640" cy="9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    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                                                              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    Ocitl jsem se v situaci, kdy bylo </a:t>
            </a: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     potřeba poskytnout první pomoc?</a:t>
            </a:r>
            <a:br>
              <a:rPr sz="32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</a:t>
            </a: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</a:t>
            </a: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92320" y="2492280"/>
            <a:ext cx="7456320" cy="3826080"/>
            <a:chOff x="1192320" y="2492280"/>
            <a:chExt cx="7456320" cy="3826080"/>
          </a:xfrm>
        </p:grpSpPr>
        <p:graphicFrame>
          <p:nvGraphicFramePr>
            <p:cNvPr id="117" name=""/>
            <p:cNvGraphicFramePr/>
            <p:nvPr/>
          </p:nvGraphicFramePr>
          <p:xfrm>
            <a:off x="1192320" y="2492280"/>
            <a:ext cx="7456320" cy="3826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92320" y="2492280"/>
                      <a:ext cx="7456320" cy="382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192320" y="2492280"/>
              <a:ext cx="7456320" cy="38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-965160"/>
            <a:ext cx="74674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916280"/>
            <a:ext cx="7559640" cy="4054320"/>
            <a:chOff x="971640" y="1916280"/>
            <a:chExt cx="7559640" cy="4054320"/>
          </a:xfrm>
        </p:grpSpPr>
        <p:graphicFrame>
          <p:nvGraphicFramePr>
            <p:cNvPr id="122" name=""/>
            <p:cNvGraphicFramePr/>
            <p:nvPr/>
          </p:nvGraphicFramePr>
          <p:xfrm>
            <a:off x="971640" y="1916280"/>
            <a:ext cx="7559640" cy="405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1916280"/>
                      <a:ext cx="7559640" cy="40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971640" y="1916280"/>
              <a:ext cx="7559640" cy="40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68360" y="26028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fe8637"/>
                </a:solidFill>
                <a:latin typeface="Century Schoolbook"/>
              </a:rPr>
              <a:t>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PP jsem v již životě poskyt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6093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d2611c"/>
                </a:solidFill>
                <a:latin typeface="Arial"/>
              </a:rPr>
              <a:t>Ze 63 klientů 7 KPR nezvlád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429264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4292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74680"/>
            <a:ext cx="746748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Školení považuji za potřebné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63600" y="2133720"/>
            <a:ext cx="7456680" cy="3825720"/>
            <a:chOff x="1263600" y="2133720"/>
            <a:chExt cx="7456680" cy="3825720"/>
          </a:xfrm>
        </p:grpSpPr>
        <p:graphicFrame>
          <p:nvGraphicFramePr>
            <p:cNvPr id="131" name=""/>
            <p:cNvGraphicFramePr/>
            <p:nvPr/>
          </p:nvGraphicFramePr>
          <p:xfrm>
            <a:off x="1263600" y="2133720"/>
            <a:ext cx="7456680" cy="382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63600" y="2133720"/>
                      <a:ext cx="7456680" cy="38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1263600" y="2133720"/>
              <a:ext cx="7456680" cy="38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13:12:49Z</dcterms:created>
  <dc:creator>Mgr. Světlana Myšáková</dc:creator>
  <dc:description/>
  <dc:language>en-US</dc:language>
  <cp:lastModifiedBy>Orlickoústecká nemocnice, a.s.</cp:lastModifiedBy>
  <dcterms:modified xsi:type="dcterms:W3CDTF">2015-01-12T08:52:58Z</dcterms:modified>
  <cp:revision>63</cp:revision>
  <dc:subject/>
  <dc:title>Zkušební test bozp a po      3.6.2008</dc:title>
</cp:coreProperties>
</file>