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01E8F-2775-4FE0-8FF0-0E873AA74E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8E2C-87E6-443B-9130-C88C441A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56098-7DB9-4806-9474-DA7D47BB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69583-CEC1-431B-B4B7-65E5476DE1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4C7C5-FFD1-45FD-8076-8312EE77C9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CA45B-8394-4BCC-BF76-0CC19FB7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1DDC0-8574-4968-8C86-E057A010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DDAA9-9541-4256-B8A3-7593FD94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3DB25-F812-4B7E-AE9D-8F31E8D4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9F25F-116F-467F-96BB-CC785CFE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58AE5-4940-49FD-8157-CA003776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AFA14-306D-4012-80FB-8BF715E6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851AB-32FF-45F9-9925-98329BE2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DABB4-552B-4AAC-812F-DC60166F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E2A2A-208C-4E7D-B126-8E6F5349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8B364-BCC7-4100-A592-7DC16C29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90FBF-44DA-4A6B-8744-E7DE481C56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5B4F2-53E9-466D-98F9-7354FC0C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DB52D-1B6B-47A6-A419-B97C2D69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257BC-3D98-4477-8920-21895AE3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668FD-353C-40EC-AB4C-50028E29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C9795-83F8-46E2-BFDB-C0A0E5E8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F196C-DCEA-475F-8F64-D2787FF5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14D75-9ECF-4C43-9669-1C98562A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A75353-917F-4E55-83B0-4802168B1A0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699084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58C3CE-BAF5-42D7-9E67-1153374DCFE1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74680"/>
            <a:ext cx="85327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575f6d"/>
                </a:solidFill>
                <a:latin typeface="Century Schoolbook"/>
              </a:rPr>
              <a:t>      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     za r. 20</a:t>
            </a:r>
            <a:r>
              <a:rPr b="1" lang="cs-CZ" sz="3200" spc="-1" strike="noStrike">
                <a:solidFill>
                  <a:srgbClr val="fe8637"/>
                </a:solidFill>
                <a:latin typeface="Arial"/>
              </a:rPr>
              <a:t>15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celkem </a:t>
            </a:r>
            <a:r>
              <a:rPr b="1" lang="cs-CZ" sz="3200" spc="-1" strike="noStrike">
                <a:solidFill>
                  <a:srgbClr val="fe8637"/>
                </a:solidFill>
                <a:latin typeface="Arial"/>
              </a:rPr>
              <a:t>445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rodič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123920" y="1981080"/>
            <a:ext cx="6094440" cy="4075200"/>
            <a:chOff x="1123920" y="1981080"/>
            <a:chExt cx="6094440" cy="4075200"/>
          </a:xfrm>
        </p:grpSpPr>
        <p:graphicFrame>
          <p:nvGraphicFramePr>
            <p:cNvPr id="90" name=""/>
            <p:cNvGraphicFramePr/>
            <p:nvPr/>
          </p:nvGraphicFramePr>
          <p:xfrm>
            <a:off x="1123920" y="1981080"/>
            <a:ext cx="6094440" cy="4075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23920" y="1981080"/>
                      <a:ext cx="6094440" cy="407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1123920" y="1981080"/>
              <a:ext cx="6094440" cy="40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-1035000"/>
            <a:ext cx="8002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 věk dotazovaný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116000" y="1989000"/>
            <a:ext cx="7302600" cy="4048200"/>
            <a:chOff x="1116000" y="1989000"/>
            <a:chExt cx="7302600" cy="4048200"/>
          </a:xfrm>
        </p:grpSpPr>
        <p:graphicFrame>
          <p:nvGraphicFramePr>
            <p:cNvPr id="95" name=""/>
            <p:cNvGraphicFramePr/>
            <p:nvPr/>
          </p:nvGraphicFramePr>
          <p:xfrm>
            <a:off x="1116000" y="1989000"/>
            <a:ext cx="7302600" cy="404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1989000"/>
                      <a:ext cx="7302600" cy="404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>
              <a:off x="1116000" y="1989000"/>
              <a:ext cx="7302600" cy="40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260280"/>
            <a:ext cx="74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fe8637"/>
                </a:solidFill>
                <a:latin typeface="Century Schoolbook"/>
              </a:rPr>
              <a:t>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         vzdělání dotazovaný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42880" y="1989000"/>
            <a:ext cx="7899480" cy="4052880"/>
            <a:chOff x="542880" y="1989000"/>
            <a:chExt cx="7899480" cy="4052880"/>
          </a:xfrm>
        </p:grpSpPr>
        <p:graphicFrame>
          <p:nvGraphicFramePr>
            <p:cNvPr id="100" name=""/>
            <p:cNvGraphicFramePr/>
            <p:nvPr/>
          </p:nvGraphicFramePr>
          <p:xfrm>
            <a:off x="542880" y="1989000"/>
            <a:ext cx="7899480" cy="40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2880" y="1989000"/>
                      <a:ext cx="7899480" cy="40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542880" y="1989000"/>
              <a:ext cx="7899480" cy="40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920" y="274680"/>
            <a:ext cx="84978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základy KPR jsem před kurzem ovládal/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71640" y="2133720"/>
            <a:ext cx="7456320" cy="3825720"/>
            <a:chOff x="971640" y="2133720"/>
            <a:chExt cx="7456320" cy="3825720"/>
          </a:xfrm>
        </p:grpSpPr>
        <p:graphicFrame>
          <p:nvGraphicFramePr>
            <p:cNvPr id="105" name=""/>
            <p:cNvGraphicFramePr/>
            <p:nvPr/>
          </p:nvGraphicFramePr>
          <p:xfrm>
            <a:off x="971640" y="2133720"/>
            <a:ext cx="7456320" cy="3825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2133720"/>
                      <a:ext cx="7456320" cy="38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" name=""/>
            <p:cNvSpPr/>
            <p:nvPr/>
          </p:nvSpPr>
          <p:spPr>
            <a:xfrm>
              <a:off x="971640" y="2133720"/>
              <a:ext cx="7456320" cy="38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39640" y="609300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d2611c"/>
                </a:solidFill>
                <a:latin typeface="Arial"/>
              </a:rPr>
              <a:t>NE + ANO TEORETICKY = 84%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237960"/>
            <a:ext cx="746748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Základy jsem si osvojil/a:</a:t>
            </a:r>
            <a:br>
              <a:rPr sz="3200"/>
            </a:br>
            <a:br>
              <a:rPr sz="23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16000" y="1844640"/>
            <a:ext cx="7466040" cy="3830760"/>
            <a:chOff x="1116000" y="1844640"/>
            <a:chExt cx="7466040" cy="3830760"/>
          </a:xfrm>
        </p:grpSpPr>
        <p:graphicFrame>
          <p:nvGraphicFramePr>
            <p:cNvPr id="111" name=""/>
            <p:cNvGraphicFramePr/>
            <p:nvPr/>
          </p:nvGraphicFramePr>
          <p:xfrm>
            <a:off x="1116000" y="1844640"/>
            <a:ext cx="7466040" cy="3830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1844640"/>
                      <a:ext cx="7466040" cy="383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1116000" y="1844640"/>
              <a:ext cx="7466040" cy="38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50920" y="573408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d2611c"/>
                </a:solidFill>
                <a:latin typeface="Arial"/>
              </a:rPr>
              <a:t>JINDE: autoškola, hasiči, skauti, dětské krouž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d2611c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d2611c"/>
                </a:solidFill>
                <a:latin typeface="Arial"/>
              </a:rPr>
              <a:t>tábory, vodácký oddíl, plavecký ku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-6419880"/>
            <a:ext cx="8675640" cy="9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     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                                                                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     Ocitl jsem se v situaci, kdy bylo </a:t>
            </a: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      potřeba poskytnout první pomoc?</a:t>
            </a:r>
            <a:br>
              <a:rPr sz="32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</a:t>
            </a:r>
            <a:br>
              <a:rPr sz="29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</a:t>
            </a:r>
            <a:br>
              <a:rPr sz="2900"/>
            </a:br>
            <a:r>
              <a:rPr b="1" lang="cs-CZ" sz="2900" spc="-1" strike="noStrike">
                <a:solidFill>
                  <a:srgbClr val="fe8637"/>
                </a:solidFill>
                <a:latin typeface="Century Schoolbook"/>
              </a:rPr>
              <a:t>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192320" y="2492280"/>
            <a:ext cx="7456320" cy="3826080"/>
            <a:chOff x="1192320" y="2492280"/>
            <a:chExt cx="7456320" cy="3826080"/>
          </a:xfrm>
        </p:grpSpPr>
        <p:graphicFrame>
          <p:nvGraphicFramePr>
            <p:cNvPr id="117" name=""/>
            <p:cNvGraphicFramePr/>
            <p:nvPr/>
          </p:nvGraphicFramePr>
          <p:xfrm>
            <a:off x="1192320" y="2492280"/>
            <a:ext cx="7456320" cy="3826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92320" y="2492280"/>
                      <a:ext cx="7456320" cy="382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1192320" y="2492280"/>
              <a:ext cx="7456320" cy="38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-965160"/>
            <a:ext cx="74674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71640" y="1916280"/>
            <a:ext cx="7559640" cy="4054320"/>
            <a:chOff x="971640" y="1916280"/>
            <a:chExt cx="7559640" cy="4054320"/>
          </a:xfrm>
        </p:grpSpPr>
        <p:graphicFrame>
          <p:nvGraphicFramePr>
            <p:cNvPr id="122" name=""/>
            <p:cNvGraphicFramePr/>
            <p:nvPr/>
          </p:nvGraphicFramePr>
          <p:xfrm>
            <a:off x="971640" y="1916280"/>
            <a:ext cx="7559640" cy="405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1916280"/>
                      <a:ext cx="7559640" cy="405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971640" y="1916280"/>
              <a:ext cx="7559640" cy="40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68360" y="260280"/>
            <a:ext cx="79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fe8637"/>
                </a:solidFill>
                <a:latin typeface="Century Schoolbook"/>
              </a:rPr>
              <a:t>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PP jsem v již životě poskyt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609300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d2611c"/>
                </a:solidFill>
                <a:latin typeface="Arial"/>
              </a:rPr>
              <a:t>Ze 73 klientů 6 KPR nezvlád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16360" y="429264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16360" y="4292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74680"/>
            <a:ext cx="746748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7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Dotazníky – zpětná vazba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8637"/>
                </a:solidFill>
                <a:latin typeface="Century Schoolbook"/>
              </a:rPr>
              <a:t>  Školení považuji za potřebné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263600" y="2133720"/>
            <a:ext cx="7456680" cy="3825720"/>
            <a:chOff x="1263600" y="2133720"/>
            <a:chExt cx="7456680" cy="3825720"/>
          </a:xfrm>
        </p:grpSpPr>
        <p:graphicFrame>
          <p:nvGraphicFramePr>
            <p:cNvPr id="131" name=""/>
            <p:cNvGraphicFramePr/>
            <p:nvPr/>
          </p:nvGraphicFramePr>
          <p:xfrm>
            <a:off x="1263600" y="2133720"/>
            <a:ext cx="7456680" cy="3825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63600" y="2133720"/>
                      <a:ext cx="7456680" cy="38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"/>
            <p:cNvSpPr/>
            <p:nvPr/>
          </p:nvSpPr>
          <p:spPr>
            <a:xfrm>
              <a:off x="1263600" y="2133720"/>
              <a:ext cx="7456680" cy="38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13:12:49Z</dcterms:created>
  <dc:creator>Mgr. Světlana Myšáková</dc:creator>
  <dc:description/>
  <dc:language>en-US</dc:language>
  <cp:lastModifiedBy>nemocnice</cp:lastModifiedBy>
  <dcterms:modified xsi:type="dcterms:W3CDTF">2016-01-06T08:28:58Z</dcterms:modified>
  <cp:revision>64</cp:revision>
  <dc:subject/>
  <dc:title>Zkušební test bozp a po      3.6.2008</dc:title>
</cp:coreProperties>
</file>