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75640" cy="10001160"/>
          </a:xfrm>
          <a:custGeom>
            <a:avLst/>
            <a:gdLst>
              <a:gd name="textAreaLeft" fmla="*/ 360 w 6875640"/>
              <a:gd name="textAreaRight" fmla="*/ 6875280 w 6875640"/>
              <a:gd name="textAreaTop" fmla="*/ 360 h 10001160"/>
              <a:gd name="textAreaBottom" fmla="*/ 10000800 h 10001160"/>
            </a:gdLst>
            <a:ahLst/>
            <a:rect l="textAreaLeft" t="textAreaTop" r="textAreaRight" b="textAreaBottom"/>
            <a:pathLst>
              <a:path w="21600" h="31418">
                <a:moveTo>
                  <a:pt x="4" y="0"/>
                </a:moveTo>
                <a:arcTo wR="4" hR="4" stAng="16200000" swAng="-5400000"/>
                <a:lnTo>
                  <a:pt x="0" y="31414"/>
                </a:lnTo>
                <a:arcTo wR="4" hR="4" stAng="10800000" swAng="-5400000"/>
                <a:lnTo>
                  <a:pt x="21596" y="3141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77080" cy="10001160"/>
          </a:xfrm>
          <a:custGeom>
            <a:avLst/>
            <a:gdLst>
              <a:gd name="textAreaLeft" fmla="*/ 360 w 6877080"/>
              <a:gd name="textAreaRight" fmla="*/ 6876720 w 6877080"/>
              <a:gd name="textAreaTop" fmla="*/ 360 h 10001160"/>
              <a:gd name="textAreaBottom" fmla="*/ 10000800 h 10001160"/>
            </a:gdLst>
            <a:ahLst/>
            <a:rect l="textAreaLeft" t="textAreaTop" r="textAreaRight" b="textAreaBottom"/>
            <a:pathLst>
              <a:path w="21600" h="31412">
                <a:moveTo>
                  <a:pt x="5" y="0"/>
                </a:moveTo>
                <a:arcTo wR="5" hR="5" stAng="16200000" swAng="-5400000"/>
                <a:lnTo>
                  <a:pt x="0" y="31407"/>
                </a:lnTo>
                <a:arcTo wR="5" hR="5" stAng="10800000" swAng="-5400000"/>
                <a:lnTo>
                  <a:pt x="21595" y="3141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95560" y="0"/>
            <a:ext cx="2978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9600" y="750600"/>
            <a:ext cx="4995720" cy="3746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7240" y="4750920"/>
            <a:ext cx="5499360" cy="4496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49968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3895200" y="9499680"/>
            <a:ext cx="29768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Century School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3E8A4-074E-49DD-AD72-50FA945D33C2}" type="slidenum">
              <a:rPr b="0" lang="cs-CZ" sz="1300" spc="-1" strike="noStrike">
                <a:solidFill>
                  <a:srgbClr val="000000"/>
                </a:solidFill>
                <a:latin typeface="Century Schoolbook"/>
                <a:ea typeface="Segoe U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29611-A101-4E6A-B5B3-4FF189C2CCF9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45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F6A3C-F33F-4F26-99CD-A6D7A2EB125B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48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B265E-35D5-4B01-9B6D-F7FA9E2DF00A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51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F9FE7-2EE3-402E-B808-7155351DB7F4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19145-ECAD-4D08-A79D-0FDCF1CFC77C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761ED-E526-40C9-A2F7-4F2417FE31A0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8ED59-AD22-4964-AD20-18874C487ECD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95560" y="9499680"/>
            <a:ext cx="2978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0140D-326D-4283-B740-8153216EFFE7}" type="slidenum">
              <a:rPr b="0" lang="cs-CZ" sz="13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8960" cy="374976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724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4A06-D9D3-478F-8BFB-BB00364C9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5E2B-D521-49BD-91C5-F4FBFC475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108D-AB0F-4806-A2E2-0F8220BA4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09E8-2445-49CA-9AF8-E34A3B4A0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4684-E96C-4BEC-9738-E8ECDD930E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756C0-2188-4333-9C82-857BF00136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0448-B615-4667-BAB7-B6AEE54550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B271-B729-4287-AC52-E14F1243B5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19A6-CA2A-4291-8D79-F37DD1331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143C-169E-490B-AD10-395D44611B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9A58-4522-4E57-9E94-3E017F3C2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5B3B-967C-4D33-A3E6-98DDBF50C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0053-B575-47EF-87F5-CD23CB9A4A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A6AE-35F1-42B4-8C71-8E17CE3288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C5CE-D0A1-456A-9098-B5AA0202B2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47B8-EC37-447C-B9E2-1A4F81F524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BC6F-FF73-4663-9E84-7153F9A486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EA3C-6E9A-4B00-BE07-28F3B2BA3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C270-240D-4131-9C66-164F6C79F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FCE5-D0AD-471E-9530-20AA0A054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98F4-1C81-4873-A822-F4249D4FF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8F28-E2B5-4180-9BFC-12E5365C3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9C1C-44E0-48CD-BFED-876C23A62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3FDE-931C-46A5-8F69-DE4C11B0D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C17A6-2D8E-468A-8698-8AA5DB01E35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4D052AA-C6BD-4177-A162-C4771AFA2917}" type="slidenum">
              <a:rPr b="1" lang="cs-CZ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74680"/>
            <a:ext cx="85327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za r. 20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16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celkem 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487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rodič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23920" y="1981080"/>
            <a:ext cx="6093000" cy="4073760"/>
            <a:chOff x="1123920" y="1981080"/>
            <a:chExt cx="6093000" cy="4073760"/>
          </a:xfrm>
        </p:grpSpPr>
        <p:graphicFrame>
          <p:nvGraphicFramePr>
            <p:cNvPr id="99" name=""/>
            <p:cNvGraphicFramePr/>
            <p:nvPr/>
          </p:nvGraphicFramePr>
          <p:xfrm>
            <a:off x="1123920" y="1981080"/>
            <a:ext cx="6093000" cy="407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3920" y="1981080"/>
                      <a:ext cx="6093000" cy="407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1123920" y="1981080"/>
              <a:ext cx="6093000" cy="40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-1035000"/>
            <a:ext cx="8002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věk dotazovaný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12760" y="1989000"/>
            <a:ext cx="7305840" cy="4046760"/>
            <a:chOff x="1112760" y="1989000"/>
            <a:chExt cx="7305840" cy="4046760"/>
          </a:xfrm>
        </p:grpSpPr>
        <p:graphicFrame>
          <p:nvGraphicFramePr>
            <p:cNvPr id="104" name=""/>
            <p:cNvGraphicFramePr/>
            <p:nvPr/>
          </p:nvGraphicFramePr>
          <p:xfrm>
            <a:off x="1112760" y="1989000"/>
            <a:ext cx="7305840" cy="4046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2760" y="1989000"/>
                      <a:ext cx="7305840" cy="404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116000" y="1989000"/>
              <a:ext cx="7300800" cy="404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2602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   vzdělání dotazovaný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2880" y="1989000"/>
            <a:ext cx="7897680" cy="4051440"/>
            <a:chOff x="542880" y="1989000"/>
            <a:chExt cx="7897680" cy="4051440"/>
          </a:xfrm>
        </p:grpSpPr>
        <p:graphicFrame>
          <p:nvGraphicFramePr>
            <p:cNvPr id="109" name=""/>
            <p:cNvGraphicFramePr/>
            <p:nvPr/>
          </p:nvGraphicFramePr>
          <p:xfrm>
            <a:off x="542880" y="1989000"/>
            <a:ext cx="7897680" cy="4051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" y="1989000"/>
                      <a:ext cx="7897680" cy="405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42880" y="1989000"/>
              <a:ext cx="78976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274680"/>
            <a:ext cx="8497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základy KPR jsem před kurzem ovládal/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71640" y="2133720"/>
            <a:ext cx="7454880" cy="3824280"/>
            <a:chOff x="971640" y="2133720"/>
            <a:chExt cx="7454880" cy="3824280"/>
          </a:xfrm>
        </p:grpSpPr>
        <p:graphicFrame>
          <p:nvGraphicFramePr>
            <p:cNvPr id="114" name=""/>
            <p:cNvGraphicFramePr/>
            <p:nvPr/>
          </p:nvGraphicFramePr>
          <p:xfrm>
            <a:off x="971640" y="2133720"/>
            <a:ext cx="7454880" cy="382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133720"/>
                      <a:ext cx="7454880" cy="38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971640" y="2133720"/>
              <a:ext cx="7454880" cy="38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NE + ANO TEORETICKY = 86% 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37960"/>
            <a:ext cx="746748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Základy jsem si osvojil/a:</a:t>
            </a:r>
            <a:br>
              <a:rPr sz="3200"/>
            </a:br>
            <a:br>
              <a:rPr sz="23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16000" y="1844640"/>
            <a:ext cx="7464600" cy="3828960"/>
            <a:chOff x="1116000" y="1844640"/>
            <a:chExt cx="7464600" cy="3828960"/>
          </a:xfrm>
        </p:grpSpPr>
        <p:graphicFrame>
          <p:nvGraphicFramePr>
            <p:cNvPr id="120" name=""/>
            <p:cNvGraphicFramePr/>
            <p:nvPr/>
          </p:nvGraphicFramePr>
          <p:xfrm>
            <a:off x="1116000" y="1844640"/>
            <a:ext cx="7464600" cy="382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844640"/>
                      <a:ext cx="7464600" cy="38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1116000" y="1844640"/>
              <a:ext cx="7464600" cy="38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50920" y="57340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JINDE: autoškola, hasiči, skauti, dětské kroužk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tábory, vodácký oddíl, plavecký kur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-6419880"/>
            <a:ext cx="8675640" cy="9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                                                         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Ocitl jsem se v situaci, kdy bylo </a:t>
            </a: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potřeba poskytnout první pomoc?</a:t>
            </a:r>
            <a:br>
              <a:rPr sz="32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192320" y="2492280"/>
            <a:ext cx="7454880" cy="3824280"/>
            <a:chOff x="1192320" y="2492280"/>
            <a:chExt cx="7454880" cy="3824280"/>
          </a:xfrm>
        </p:grpSpPr>
        <p:graphicFrame>
          <p:nvGraphicFramePr>
            <p:cNvPr id="126" name=""/>
            <p:cNvGraphicFramePr/>
            <p:nvPr/>
          </p:nvGraphicFramePr>
          <p:xfrm>
            <a:off x="1192320" y="2492280"/>
            <a:ext cx="7454880" cy="382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92320" y="2492280"/>
                      <a:ext cx="7454880" cy="38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1192320" y="2492280"/>
              <a:ext cx="7454880" cy="38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-965160"/>
            <a:ext cx="74674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71640" y="1916280"/>
            <a:ext cx="7557840" cy="4052880"/>
            <a:chOff x="971640" y="1916280"/>
            <a:chExt cx="7557840" cy="4052880"/>
          </a:xfrm>
        </p:grpSpPr>
        <p:graphicFrame>
          <p:nvGraphicFramePr>
            <p:cNvPr id="131" name=""/>
            <p:cNvGraphicFramePr/>
            <p:nvPr/>
          </p:nvGraphicFramePr>
          <p:xfrm>
            <a:off x="971640" y="1916280"/>
            <a:ext cx="7557840" cy="40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916280"/>
                      <a:ext cx="75578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971640" y="1916280"/>
              <a:ext cx="755784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68360" y="2602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PP jsem v již životě poskyt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Z 92 klientů 9 KPR nezvlád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429264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4292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746748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Školení považuji za potřebné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63600" y="2133720"/>
            <a:ext cx="7454880" cy="3824280"/>
            <a:chOff x="1263600" y="2133720"/>
            <a:chExt cx="7454880" cy="3824280"/>
          </a:xfrm>
        </p:grpSpPr>
        <p:graphicFrame>
          <p:nvGraphicFramePr>
            <p:cNvPr id="140" name=""/>
            <p:cNvGraphicFramePr/>
            <p:nvPr/>
          </p:nvGraphicFramePr>
          <p:xfrm>
            <a:off x="1263600" y="2133720"/>
            <a:ext cx="7454880" cy="382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3600" y="2133720"/>
                      <a:ext cx="7454880" cy="38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>
              <a:off x="1263600" y="2133720"/>
              <a:ext cx="7454880" cy="38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3:12:49Z</dcterms:created>
  <dc:creator>Mgr. Světlana Myšáková</dc:creator>
  <dc:description/>
  <dc:language>en-US</dc:language>
  <cp:lastModifiedBy>Hanka</cp:lastModifiedBy>
  <dcterms:modified xsi:type="dcterms:W3CDTF">2017-01-03T19:08:32Z</dcterms:modified>
  <cp:revision>68</cp:revision>
  <dc:subject/>
  <dc:title>Zkušební test bozp a po      3.6.2008</dc:title>
</cp:coreProperties>
</file>